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469-73F6-4296-BD26-026226D7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795-F00C-4945-A55E-F15D8AAF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FCD-BA92-4B78-B0E2-25A3F615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486-1B46-4D2E-84BE-773E9138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23E-C8C0-4F25-81FF-53C32E81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16B-5FE6-48BF-9B1C-CDFBD4C9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1A0-51C6-49A7-82A5-040BBFA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4A5-D9B9-4B97-AB0C-D4146BE4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7A0-0A61-4F9D-B622-3FEE841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77B-AE6F-46F0-A511-CEE72763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D1B-A827-4807-B5D4-B3002FF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F9B-F0B5-48ED-9BCC-BC61219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6737-16B4-441D-823B-534F68D2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hallod-e, nem hallod-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hallod, Jézus hív téged?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hallod-e, nem hallod-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hallod, Jézus hív téged?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eghalt érted úgy szeretet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öjj hát mire vársz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incs senki ilyen jó barát.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eghalt érted úgy szeretet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öjj hát mire vársz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Holnap már késő lesz talá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látod-e, nem látod-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látod átszegzett kezét?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Nem látod-e, nem látod-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látod feléd nyújtja rég?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eghalt érted úgy szeretet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öjj hát mire vársz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incs senki ilyen jó barát.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eghalt érted úgy szeretet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öjj hát mire vársz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Holnap már késő lesz talá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érzed-e, nem érzed-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érzed, Jézus hogy szeret?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érzed-e, nem érzed-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em érzed, mennyire szeret?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eghalt érted úgy szeretet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öjj hát mire vársz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incs senki ilyen jó barát.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eghalt érted úgy szeretet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öjj hát mire vársz?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Holnap már késő lesz talá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2:44:47Z</dcterms:created>
  <dc:creator>Baptista Gyülekezet</dc:creator>
  <dc:description/>
  <dc:language>en-US</dc:language>
  <cp:lastModifiedBy>Baptista Gyülekezet</cp:lastModifiedBy>
  <dcterms:modified xsi:type="dcterms:W3CDTF">2006-09-10T14:31:23Z</dcterms:modified>
  <cp:revision>2</cp:revision>
  <dc:subject/>
  <dc:title>Nem hallod-e, nem hallod-e, Nem hallod, Jézus hív téged?! Nem hallod-e, nem hallod-e, Nem hallod, Jézus hív téged?!</dc:title>
</cp:coreProperties>
</file>